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02E-C085-4A5C-A4C6-29DFD32B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FCA-832D-4F31-B96C-20E27BD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87B-9AFA-43C1-9431-0AD60B3E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353-4749-4CDA-9094-73044530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70B-E55E-4E3E-B2F3-22CE09F5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D77-74D3-4D15-97CE-2E78B947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803-66AD-4EC2-863C-C6D16BA2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1D5-8C43-4761-A272-BAAD3951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DD9-23C7-4F15-AA6A-8EBE577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BA9-A50B-4F2C-9AA8-18C2E2FB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533-E042-46A0-937C-C83A3954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4289-2760-47FA-B515-4564A42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8E1A-31CD-42C2-9CAC-4E13B58AED49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0DF-D6DC-4928-A314-8623540954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04640"/>
            <a:ext cx="676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км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әк һәм ботка, чәй һәм кофе тур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иң кадерле, иң кирәк, иң тәмле ризык. Башак ипи я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отка     булып өстәлгә    килгәнче зур юл 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пи басуда үсә, ә аны үстерүдә күп кен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кешеләр зур хезмәт куя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Хәзер кешегә машиналар ярдәмгә килә. Барыб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икмәк  үстерү авыр эш булып к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кмәк – ил тотка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Ипи-тоз – якты йөз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Без икмәкне олыларга, кадерләргә тиеш. Икмәкне үстергә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t-RU" sz="1800" spc="-1" strike="noStrike">
                <a:solidFill>
                  <a:srgbClr val="000000"/>
                </a:solidFill>
                <a:latin typeface="Arial"/>
              </a:rPr>
              <a:t>пешергән кешеләрне хөрмәт  итәргә тиешб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Камыр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56.jpg"/>
          <p:cNvPicPr/>
          <p:nvPr/>
        </p:nvPicPr>
        <p:blipFill>
          <a:blip r:embed="rId1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CD15-1E0A-4766-836A-B2DB9421BB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Камыр басала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6" descr="58.jpg"/>
          <p:cNvPicPr/>
          <p:nvPr/>
        </p:nvPicPr>
        <p:blipFill>
          <a:blip r:embed="rId1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9" name="Содержимое 7" descr="6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DC75-EFBC-4329-9E88-5877CAB5897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Икмәкне өйдә дә пешереп бу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13.jpg"/>
          <p:cNvPicPr/>
          <p:nvPr/>
        </p:nvPicPr>
        <p:blipFill>
          <a:blip r:embed="rId1"/>
          <a:stretch/>
        </p:blipFill>
        <p:spPr>
          <a:xfrm>
            <a:off x="1830240" y="1600200"/>
            <a:ext cx="54835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A98B-101B-4A91-8AAD-3AC4E84E7C2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Икмәк әз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одержимое 6" descr="66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Содержимое 7" descr="67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9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9A03-032D-4C2C-B95F-0E847A6A594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e46c0a"/>
                </a:solidFill>
                <a:latin typeface="Arial"/>
              </a:rPr>
              <a:t>И</a:t>
            </a:r>
            <a:r>
              <a:rPr b="1" lang="tt-RU" sz="9600" spc="-1" strike="noStrike">
                <a:solidFill>
                  <a:srgbClr val="e46c0a"/>
                </a:solidFill>
                <a:latin typeface="Arial"/>
              </a:rPr>
              <a:t>кмәк кайдан килә?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65A-78BC-4298-8E78-430CAA30FEB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лыкларны чәчәлә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6" descr="3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847F-1766-4543-93C9-5CC2670F502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лар ярдәмгә килә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59.jpg"/>
          <p:cNvPicPr/>
          <p:nvPr/>
        </p:nvPicPr>
        <p:blipFill>
          <a:blip r:embed="rId1"/>
          <a:stretch/>
        </p:blipFill>
        <p:spPr>
          <a:xfrm>
            <a:off x="1752480" y="1747800"/>
            <a:ext cx="563904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41F-AFE7-4F93-85CE-580F549465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Шушындый башаклар үсеп чыг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3.jpg"/>
          <p:cNvPicPr/>
          <p:nvPr/>
        </p:nvPicPr>
        <p:blipFill>
          <a:blip r:embed="rId1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Нижний колонтитул 5"/>
          <p:cNvSpPr/>
          <p:nvPr/>
        </p:nvSpPr>
        <p:spPr>
          <a:xfrm>
            <a:off x="3203640" y="62373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1BA3-BEED-411C-B563-AB087E0228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Башакларны 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комбайн</a:t>
            </a: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нар җыя.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16.jpg"/>
          <p:cNvPicPr/>
          <p:nvPr/>
        </p:nvPicPr>
        <p:blipFill>
          <a:blip r:embed="rId1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91D0-D03B-4874-9534-E496CE3220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e46c0a"/>
                </a:solidFill>
                <a:latin typeface="Arial"/>
              </a:rPr>
              <a:t>Уңышны тегермәнгә илтәләр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41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6100-0541-4F9A-BE96-DD71AEFD75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e46c0a"/>
                </a:solidFill>
                <a:latin typeface="Arial"/>
              </a:rPr>
              <a:t>Орлыклардан он ясыйл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40.jpg"/>
          <p:cNvPicPr/>
          <p:nvPr/>
        </p:nvPicPr>
        <p:blipFill>
          <a:blip r:embed="rId1"/>
          <a:stretch/>
        </p:blipFill>
        <p:spPr>
          <a:xfrm>
            <a:off x="973080" y="1979640"/>
            <a:ext cx="7197840" cy="376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77D6-EE72-4A98-8FE2-D6D39736B58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Arial"/>
              </a:rPr>
              <a:t>Оннан икмәк пешерәләр</a:t>
            </a:r>
            <a:r>
              <a:rPr b="1" lang="ru-RU" sz="4000" spc="-1" strike="noStrike">
                <a:solidFill>
                  <a:srgbClr val="e46c0a"/>
                </a:solidFill>
                <a:latin typeface="Georgi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5" descr="9.jpg"/>
          <p:cNvPicPr/>
          <p:nvPr/>
        </p:nvPicPr>
        <p:blipFill>
          <a:blip r:embed="rId1"/>
          <a:stretch/>
        </p:blipFill>
        <p:spPr>
          <a:xfrm>
            <a:off x="2333520" y="2071800"/>
            <a:ext cx="4476960" cy="35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7EAF-D42E-44BB-9F17-189BCEE54C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FuckYouBill</cp:lastModifiedBy>
  <dcterms:modified xsi:type="dcterms:W3CDTF">2013-01-13T06:58:39Z</dcterms:modified>
  <cp:revision>31</cp:revision>
  <dc:subject/>
  <dc:title>Откуда к нам хлеб пришёл</dc:title>
</cp:coreProperties>
</file>